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87B-208D-4EDA-9CDF-1A41A8BA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CA6-DE85-4DFF-894C-FF42E95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98-64E2-4AEF-8602-FC9AC426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044-AEA7-4268-922B-7E2120E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D521-986A-4437-BF16-3DAFD7C4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F84-04FC-4157-89FE-D8558FE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23F-4819-4392-BA98-D2FA92B2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2D3-CA5A-4491-BA4C-2A2314E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4104-3261-4E25-8C7C-0687930F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5A95-1D38-45D8-9D23-FD6C48C7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306-3BBB-4654-9F1C-DF78BE5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13E-024E-4183-9B9C-DE69F399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133-DA66-424D-A4FF-1C2F0E2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C065-A491-4A38-86F7-22F7EF4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3E6-9941-42FF-807D-FF46C905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531-677C-48E5-BA36-0D5AF8FC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2E5-AFB3-4E60-91D3-901CCA39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B9C-E228-4F25-BDFE-C6F7C51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C96-8BEE-4166-923C-8AFE04E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CD8-9C30-4B5F-85E2-1F9412A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F6B-76E8-4FCC-8F08-3F5E976B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DC2-F6F5-4135-B163-57E01F9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9BB-35C3-4FB9-B274-E85E776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FB0-8F25-45DB-9795-7810BA04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0C1-C573-45B8-A232-29A6CC3A1A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6F4E-79E4-4D70-8C2F-13753C933B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Obolevanje i umiranje od ishemijske bolesti srca u 2010. na teritoriji </a:t>
            </a:r>
            <a:br>
              <a:rPr sz="3200"/>
            </a:b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Nišavskog okrug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sistent dr sc. med. Nataša Ranč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2403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grafikonu 1 prikazana je struktura novoobolelih od IBS na teritoriji Nišavskog okruga u 2010. go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Grafikon 1. Udeo novooobolelih od IBS iz grada Niša u odnosu na ukupan broj </a:t>
            </a:r>
            <a:r>
              <a:rPr b="0" lang="sr-Latn-C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u 2010. godin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2133720"/>
          <a:ext cx="720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33720"/>
                    <a:ext cx="720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trukturi obolevanja od IBS, novooboleli sa teritorije grada Niša činili su 75,6% od ukupnog broja registrovanih novooboleli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ooboleli sa teritorije ostalih 6 opština Nišavskog okruga činili su 24,4% u strukturi novoobolelih od IBS 2010. godini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Akutni infarkt miokarda (AIM) prvi je uzrok obolevanja muškaraca starosti 55 do 64 godine u Srbiji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utni ishemijski moždani udar (šlog) prvi je uzrok obolevanja žena starosti 55 do 64 godine u Srbij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trukturi umiranja od IBS, umrli sa teritorije grada Niša činili su 66% u odnosu na ukupan broj registrovanih umrlih od IBS u 2010. na teritoriji celog Nišavskog okrug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Grafikon 2. Struktura umrlih od IBS </a:t>
            </a:r>
            <a:br>
              <a:rPr sz="3200"/>
            </a:b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u 2010. godin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133720"/>
          <a:ext cx="662472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66247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Akutni koronarni sindr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i koronarni sindrom (AKS) smatra se jednim od najčešćih uzroka naprasne srčane smrti (NPS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S nastaje kao posledica akutne ishemije i/ili nekroze miokar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že da se manifestuje kao nestabilna angina pectoris (NAP), akutni infarkt miokarda bez elevacije ST segmenta (NSTEMI) ili sa ST elevacijom (STEMI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2006. gidine u Institutu za javno zdravlje vodi se populacioni registar obolelih i umrlih od akutnog koronarnog sindro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ukupnog broja registrovanih novoobolelih od AKS, 40% bilo je mlađe od 65 godina a 60% starije od 65 godi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sečna starost pacijenata bila 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66.73 ± 9.35 (SD) god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gistrovan je značajno veći broj novoobolelih od AIM nego od NAP (71% vs 29%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dnosno 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gistrovano je 2,4 puta više novoobolelih od AIM nego od NA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uškarci su 1.9 puta više obolevali AIM nego ž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ardiovaskularne bolesti srca (KVB) su značajan uzrok prevremenog umiranja, radne nesposobnosti i invalidnosti stanovništva u razvijenim zemljama i zemljama u razvo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U Srbiji se najviše umire od KV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Između 51% i 55,2% ljudi u Srbiji svake godine umre od nekog obolenja iz grupe KV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jzastupljeniji faktori rizik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d obolel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bili s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ipertenz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slipidem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uš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sleđ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izička neaktiv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Zaključ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egistrovan je porast obolevanje od ishemijske bolesti u 2010. godini u odnosu na 2009. godi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više su obolevali i umirali muškarci i žene starosti od 55 do 64 godi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neke faktore rizika (hipertenzija, pušenje, fizička neaktivnost, neadekvatna ishrana-presoljena ishrana, ishrana bogata mastima životinjskog porekla, a siromašna biljnim vlaknima) moguće je utic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manjivanjem zastupljenosti i učestalosti faktora rizika u stanovništvu može se uticati i na smanjenje obolevanja i umiranja od ishemijske bolesti sr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desetoj reviziji međunarodne klasifikacije bolesti (MKB-10), KVB obuhvataju 10 nozoloških enti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hemijaska bolest srca (IBS) je samo jedna od KVB, sa oznakom (I20-I25).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Ishemijska bolest sr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hemijska bolest srca (IBS) nastaje kao posledica ateroskleroze koronarnih arterija, zbog čega dolazi do nedovoljnog snabdevanja miokarda krvlju, pojave ishemije i nekr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ravnoteža između potreba miokarda za kiseonikom i snabdevanja, može dovesti do  pojave akutnog infarkta (AI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Faktori rizika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Glavni faktori rizika za pojavu IB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u: pušenje cigareta, hipertenzija, povećan ukupni serumski holesterol, povišen (Law Density Lipoprotein)-LDL holesterol, nizak (High density Lipoprotein) HDL holesetrol, šećerna bolest, muškarci stariji od 55 godina i žene posle menopauze i starosti preko 65 godina, starije životno dob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Predisponirajući faktori za nastanak IB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u: gojaznost, abdominalna gojaznost, fizička neaktivmost, pozitivna porodična istorija za IBS u životnom dobu pre 55 godine života kod muškaraca, a kod žena pre 65 godine života, psihosocijalni fakto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Uslovnim faktorima za nastanak IB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matraju se: povišeni trigliceridi, povišene male LDL čestice, povišen homocistein, povišen lipoprotein Lp (a), povišen fibrinogen, povišeni inflamatorni markeri (C reaktivni protei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važećim zakonskim propisima države Srbije, IBS podleže obaveznom prijavljivanju i registr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aveza Instituta za javno zdravlje je vođenje populacionog registra za obolele od IB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BS se prijavljuje i registruje od 1980.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2010. godini na teritoriji Nišavskog okruga ukupno je registrovano 1770 novoobolelih od ishemijske bolesti srca a umrlo je 47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odišnja stopa incidencije za IBS za celi okrug iznosila je 463,7/100 000, što je 2,4 puta više u odnosu na 2009. godinu, kada je stopa incidencije iznosila 190,7/100 000 stanovnika okrug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opa mortaliteta od IBS za celi Nišavski okrug iznosila je 123,9/100 000 stanovnik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opa mortaliteta bila je 1,3 puta viša nego u 2009. godini, kada je iznosila 95,3/100 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7:44:44Z</dcterms:created>
  <dc:creator>Intel</dc:creator>
  <dc:description/>
  <dc:language>en-US</dc:language>
  <cp:lastModifiedBy>AZURE</cp:lastModifiedBy>
  <dcterms:modified xsi:type="dcterms:W3CDTF">2011-06-16T18:54:08Z</dcterms:modified>
  <cp:revision>24</cp:revision>
  <dc:subject/>
  <dc:title>Obolevanje i umiranje od ishemijske bolesti srca u 2010. na teritoriji  Nišavskog okrug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